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FE8-E5A8-4D1F-B720-B67B88BB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762-A43C-45B7-A1E8-92A6989A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5C4-B59F-4C71-93C1-06AA1D55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6E4-0A19-4FFA-84F6-C8975D75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C3E-9D4D-4B91-9570-4F3E051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E9F-74F9-434E-9D09-5A8094A2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E62-C553-4EA8-8023-B19725F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90F-B6CA-49B7-939C-11A920D4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C9F-7529-42CA-8F2B-8E3A9ED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23F-CEE8-452A-94EC-CFD66C3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090-4F8A-451E-AFC4-98D2908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932-9A7B-4193-8AB8-603FE5D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C57D-977D-4C46-8570-33F63A64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us of Restart Tests on HWRF-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t-reproducible version of WRF 3.1 fully tested by Zhan Zhang made available on NCEP computer “Vap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l Strategy was to avoid making modifying AOML HWRF-x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d version was ported to AOML/HRD Linux cluster “Ooyam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ilation of this model version resulted in numerous errors due to differences in the operating system and compi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empted to compile on Boulder HPCS computer “W-j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milar compiler errors despite the operating system being similar to the one where tests were initially cond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 solution to conduct tests of the restart capability on NCEP computer “Vapor”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able to compile the model on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OML scripts/code would need to be modified to do any DA tests on this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448000">
            <a:off x="151920" y="3049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969800">
            <a:off x="8065440" y="4687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n Model on Vapor without AOML/HRD code/scripts to confirm restart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it to port model to AOML/HRD computing facilities until after we conduct tests of the restart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AOML/HRD DA system with the  updat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5Z</dcterms:created>
  <dc:creator>sellwood</dc:creator>
  <dc:description/>
  <dc:language>en-US</dc:language>
  <cp:lastModifiedBy>sellwood</cp:lastModifiedBy>
  <dcterms:modified xsi:type="dcterms:W3CDTF">2009-10-14T18:40:19Z</dcterms:modified>
  <cp:revision>7</cp:revision>
  <dc:subject/>
  <dc:title>Status of Restart Tests on HWRF-x</dc:title>
</cp:coreProperties>
</file>